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3A1-756C-42B3-8E79-D37FE464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E98-65D4-443A-B306-B2FB713C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0ED-4943-456C-85C6-E858F988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E38-A647-415C-A40D-7DFB1001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561-7EB9-4B0B-98D1-84D2753B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F19-5A85-4A92-B90E-85E09A1E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901-F5A5-4A81-BB06-43FF919E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FB2-32AC-48B9-A96B-B2E35EF9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604-39B9-4E32-B000-F24F7D9B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EB9-D6CC-4827-A2FA-55EE12F2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82B-9488-4026-8B7B-25D4C6E5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4E1-3CB9-4D24-B79B-FA8D2689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320E-2F97-4FDF-AC3E-F2FD5BAEB8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429000"/>
            <a:ext cx="4449600" cy="3373560"/>
            <a:chOff x="0" y="3429000"/>
            <a:chExt cx="4449600" cy="3373560"/>
          </a:xfrm>
        </p:grpSpPr>
        <p:sp>
          <p:nvSpPr>
            <p:cNvPr id="42" name=""/>
            <p:cNvSpPr/>
            <p:nvPr/>
          </p:nvSpPr>
          <p:spPr>
            <a:xfrm>
              <a:off x="0" y="3429000"/>
              <a:ext cx="4449600" cy="337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6280" y="3683160"/>
              <a:ext cx="3348000" cy="2536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41320" y="4951440"/>
              <a:ext cx="77760" cy="8478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57400" y="4888080"/>
              <a:ext cx="7776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57280" y="4888080"/>
              <a:ext cx="8892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57520" y="4888080"/>
              <a:ext cx="8892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68560" y="4888080"/>
              <a:ext cx="7776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70240" y="4888080"/>
              <a:ext cx="8892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81280" y="4888080"/>
              <a:ext cx="7776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81160" y="4888080"/>
              <a:ext cx="8892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81400" y="4888080"/>
              <a:ext cx="8892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92440" y="4888080"/>
              <a:ext cx="7776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94120" y="4888080"/>
              <a:ext cx="8892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83040" y="4100400"/>
              <a:ext cx="77760" cy="85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2800" y="621972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2800" y="579924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2800" y="53690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2800" y="49514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2800" y="453240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2800" y="41004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2800" y="36831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280" y="4951440"/>
              <a:ext cx="3348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4628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4616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1357200" y="495144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65744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957320" y="495144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27016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570040" y="495144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88144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18132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48156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794040" y="495144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09428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6760" y="613080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6760" y="571176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360" y="52801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8600" y="486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000" y="44449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1040" y="40114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040" y="35942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104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6820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6808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7912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7936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9184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9208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9196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0336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0324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71440" y="5065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-130320" y="494568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2840" y="6424560"/>
              <a:ext cx="77760" cy="88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94800" y="6373800"/>
              <a:ext cx="48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93760" y="6424560"/>
              <a:ext cx="79560" cy="88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06080" y="637380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p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73360" y="6424560"/>
              <a:ext cx="77760" cy="889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path path="rect">
                <a:fillToRect l="50000" t="50000" r="50000" b="50000"/>
              </a:path>
            </a:gra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4240" y="637380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ay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429000"/>
              <a:ext cx="4449600" cy="3373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58680" y="3487680"/>
            <a:ext cx="4443480" cy="3246480"/>
            <a:chOff x="58680" y="3487680"/>
            <a:chExt cx="4443480" cy="3246480"/>
          </a:xfrm>
        </p:grpSpPr>
        <p:sp>
          <p:nvSpPr>
            <p:cNvPr id="103" name=""/>
            <p:cNvSpPr/>
            <p:nvPr/>
          </p:nvSpPr>
          <p:spPr>
            <a:xfrm>
              <a:off x="58680" y="3487680"/>
              <a:ext cx="444348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2280" y="3722760"/>
              <a:ext cx="3598560" cy="2308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7360" y="60310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7360" y="57024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7360" y="53751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7360" y="50468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7360" y="4707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7360" y="43783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7360" y="40496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360" y="372276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92280" y="60307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593720" y="60307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496960" y="60307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387600" y="60307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290840" y="60307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66880" y="5234040"/>
              <a:ext cx="18864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55520" y="5234040"/>
              <a:ext cx="18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055520" y="5163840"/>
              <a:ext cx="1749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230480" y="5022360"/>
              <a:ext cx="17604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06520" y="5022720"/>
              <a:ext cx="1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406520" y="4952880"/>
              <a:ext cx="187200" cy="1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593720" y="4811760"/>
              <a:ext cx="17640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70120" y="4811760"/>
              <a:ext cx="1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770120" y="4765320"/>
              <a:ext cx="1760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946160" y="4635360"/>
              <a:ext cx="18756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720" y="463536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133720" y="4589640"/>
              <a:ext cx="17604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309760" y="4460760"/>
              <a:ext cx="187200" cy="1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96960" y="4460760"/>
              <a:ext cx="180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496960" y="4425480"/>
              <a:ext cx="1764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673360" y="4284720"/>
              <a:ext cx="17460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47960" y="4284720"/>
              <a:ext cx="144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847960" y="4249440"/>
              <a:ext cx="1890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036960" y="4120920"/>
              <a:ext cx="1746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11560" y="4121280"/>
              <a:ext cx="144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211560" y="4073040"/>
              <a:ext cx="17604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387600" y="3944520"/>
              <a:ext cx="1875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5160" y="3944880"/>
              <a:ext cx="144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6880" y="5761080"/>
              <a:ext cx="188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55520" y="5761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55520" y="5761080"/>
              <a:ext cx="17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30480" y="5761080"/>
              <a:ext cx="176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06520" y="5761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06520" y="5761080"/>
              <a:ext cx="187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93720" y="5761080"/>
              <a:ext cx="176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70120" y="5761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70120" y="5761080"/>
              <a:ext cx="176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946160" y="5433480"/>
              <a:ext cx="1800" cy="32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46160" y="5433840"/>
              <a:ext cx="187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33720" y="5433840"/>
              <a:ext cx="176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09760" y="5433840"/>
              <a:ext cx="187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96960" y="54338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96960" y="5433840"/>
              <a:ext cx="176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673360" y="5233680"/>
              <a:ext cx="144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73360" y="5234040"/>
              <a:ext cx="174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47960" y="5234040"/>
              <a:ext cx="189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6960" y="5234040"/>
              <a:ext cx="174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11560" y="52340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11560" y="5234040"/>
              <a:ext cx="176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387600" y="510516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87600" y="5105520"/>
              <a:ext cx="187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6680" y="594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6680" y="5621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6840" y="5292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6840" y="4964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6840" y="462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6840" y="4295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6840" y="3968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6840" y="3639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7000" y="6137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58440" y="6137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26760" y="6137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17400" y="6137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19200" y="6137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37400" y="638316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ua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32040" y="4817880"/>
              <a:ext cx="53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pital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680" y="3487680"/>
              <a:ext cx="4443480" cy="3246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6040" y="3794040"/>
              <a:ext cx="6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60840" y="4929120"/>
              <a:ext cx="64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b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7240" y="3486240"/>
            <a:ext cx="4446360" cy="3295440"/>
            <a:chOff x="57240" y="3486240"/>
            <a:chExt cx="4446360" cy="3295440"/>
          </a:xfrm>
        </p:grpSpPr>
        <p:sp>
          <p:nvSpPr>
            <p:cNvPr id="183" name=""/>
            <p:cNvSpPr/>
            <p:nvPr/>
          </p:nvSpPr>
          <p:spPr>
            <a:xfrm>
              <a:off x="57240" y="3486240"/>
              <a:ext cx="4446360" cy="3295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5880" y="3714840"/>
              <a:ext cx="3781440" cy="2452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76240" y="3714840"/>
              <a:ext cx="1800" cy="24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41320" y="57564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41320" y="49417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41320" y="452916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41320" y="41274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41320" y="37148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5880" y="5357880"/>
              <a:ext cx="37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15880" y="535428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939960" y="61639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352520" y="535428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776240" y="61686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200320" y="61639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612880" y="61639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036960" y="61639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460680" y="61639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873600" y="61639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297320" y="535428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77960" y="470052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35040" y="531972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8320" y="470052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95760" y="409428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5040" y="552600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32040" y="449424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71680" y="470052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38680" y="4094280"/>
              <a:ext cx="6804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5040" y="572148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08320" y="428796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17600" y="531972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71680" y="470052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939960" y="4127040"/>
              <a:ext cx="2933640" cy="14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18800" y="4876920"/>
              <a:ext cx="1046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 = 0.504x + 0.9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69600" y="5675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15680" y="486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5680" y="444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15680" y="404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8640" y="62355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4920" y="62355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4096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6504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7760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0168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2540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3400" y="6235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27120" y="6235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68760" y="6477120"/>
              <a:ext cx="103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ket Return,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194760" y="487656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hare Return,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7720" y="62485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371600" y="616248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60480" y="3498840"/>
            <a:ext cx="4438440" cy="3359160"/>
            <a:chOff x="60480" y="3498840"/>
            <a:chExt cx="4438440" cy="3359160"/>
          </a:xfrm>
        </p:grpSpPr>
        <p:sp>
          <p:nvSpPr>
            <p:cNvPr id="234" name=""/>
            <p:cNvSpPr/>
            <p:nvPr/>
          </p:nvSpPr>
          <p:spPr>
            <a:xfrm>
              <a:off x="60480" y="3498840"/>
              <a:ext cx="4438440" cy="335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9120" y="3741840"/>
              <a:ext cx="3395520" cy="2388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2400" y="613080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2400" y="565776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2400" y="51721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2400" y="46990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2400" y="42148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400" y="37418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89120" y="6130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467000" y="6130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146320" y="6130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825640" y="61304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505320" y="6130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184640" y="6130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9120" y="5985000"/>
              <a:ext cx="16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58680" y="5985000"/>
              <a:ext cx="16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27160" y="5972040"/>
              <a:ext cx="169920" cy="1296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0" y="8"/>
                  </a:moveTo>
                  <a:lnTo>
                    <a:pt x="54" y="0"/>
                  </a:lnTo>
                  <a:lnTo>
                    <a:pt x="10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97080" y="5972040"/>
              <a:ext cx="169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67000" y="5972040"/>
              <a:ext cx="169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36560" y="5961240"/>
              <a:ext cx="169920" cy="10800"/>
            </a:xfrm>
            <a:custGeom>
              <a:avLst/>
              <a:gdLst/>
              <a:ahLst/>
              <a:rect l="l" t="t" r="r" b="b"/>
              <a:pathLst>
                <a:path w="107" h="7">
                  <a:moveTo>
                    <a:pt x="0" y="7"/>
                  </a:moveTo>
                  <a:lnTo>
                    <a:pt x="54" y="0"/>
                  </a:lnTo>
                  <a:lnTo>
                    <a:pt x="10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06480" y="5961240"/>
              <a:ext cx="169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76400" y="5961240"/>
              <a:ext cx="169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146320" y="5948280"/>
              <a:ext cx="1699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316240" y="5935320"/>
              <a:ext cx="1699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486160" y="5924160"/>
              <a:ext cx="1695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655720" y="5911560"/>
              <a:ext cx="1699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825640" y="5898960"/>
              <a:ext cx="1699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995560" y="5874840"/>
              <a:ext cx="16992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165480" y="5838480"/>
              <a:ext cx="1699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335400" y="5791320"/>
              <a:ext cx="1699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05320" y="5718240"/>
              <a:ext cx="169920" cy="73080"/>
            </a:xfrm>
            <a:custGeom>
              <a:avLst/>
              <a:gdLst/>
              <a:ahLst/>
              <a:rect l="l" t="t" r="r" b="b"/>
              <a:pathLst>
                <a:path w="107" h="46">
                  <a:moveTo>
                    <a:pt x="0" y="46"/>
                  </a:moveTo>
                  <a:lnTo>
                    <a:pt x="53" y="30"/>
                  </a:lnTo>
                  <a:lnTo>
                    <a:pt x="10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75240" y="5560920"/>
              <a:ext cx="169560" cy="15732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0" y="99"/>
                  </a:moveTo>
                  <a:lnTo>
                    <a:pt x="23" y="84"/>
                  </a:lnTo>
                  <a:lnTo>
                    <a:pt x="53" y="68"/>
                  </a:lnTo>
                  <a:lnTo>
                    <a:pt x="84" y="38"/>
                  </a:lnTo>
                  <a:lnTo>
                    <a:pt x="10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44800" y="5075280"/>
              <a:ext cx="169920" cy="485640"/>
            </a:xfrm>
            <a:custGeom>
              <a:avLst/>
              <a:gdLst/>
              <a:ahLst/>
              <a:rect l="l" t="t" r="r" b="b"/>
              <a:pathLst>
                <a:path w="107" h="306">
                  <a:moveTo>
                    <a:pt x="0" y="306"/>
                  </a:moveTo>
                  <a:lnTo>
                    <a:pt x="30" y="252"/>
                  </a:lnTo>
                  <a:lnTo>
                    <a:pt x="53" y="183"/>
                  </a:lnTo>
                  <a:lnTo>
                    <a:pt x="84" y="99"/>
                  </a:lnTo>
                  <a:lnTo>
                    <a:pt x="99" y="54"/>
                  </a:lnTo>
                  <a:lnTo>
                    <a:pt x="10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14720" y="4129200"/>
              <a:ext cx="84240" cy="946080"/>
            </a:xfrm>
            <a:custGeom>
              <a:avLst/>
              <a:gdLst/>
              <a:ahLst/>
              <a:rect l="l" t="t" r="r" b="b"/>
              <a:pathLst>
                <a:path w="53" h="596">
                  <a:moveTo>
                    <a:pt x="0" y="596"/>
                  </a:moveTo>
                  <a:lnTo>
                    <a:pt x="7" y="535"/>
                  </a:lnTo>
                  <a:lnTo>
                    <a:pt x="15" y="466"/>
                  </a:lnTo>
                  <a:lnTo>
                    <a:pt x="30" y="313"/>
                  </a:lnTo>
                  <a:lnTo>
                    <a:pt x="38" y="153"/>
                  </a:lnTo>
                  <a:lnTo>
                    <a:pt x="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8840" y="604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760" y="5572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2320" y="5087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320" y="4614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320" y="4129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320" y="3656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0120" y="6238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32720" y="6238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12400" y="6238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91720" y="6238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71040" y="6238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14000" y="623880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89720" y="6494400"/>
              <a:ext cx="930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bt Weigh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-336240" y="492300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arnings per share,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80" y="3498840"/>
              <a:ext cx="4438440" cy="335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54000" y="3489480"/>
            <a:ext cx="4452840" cy="3368520"/>
            <a:chOff x="54000" y="3489480"/>
            <a:chExt cx="4452840" cy="3368520"/>
          </a:xfrm>
        </p:grpSpPr>
        <p:sp>
          <p:nvSpPr>
            <p:cNvPr id="284" name=""/>
            <p:cNvSpPr/>
            <p:nvPr/>
          </p:nvSpPr>
          <p:spPr>
            <a:xfrm>
              <a:off x="54000" y="3489480"/>
              <a:ext cx="4452840" cy="336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73080" y="3727440"/>
              <a:ext cx="3198960" cy="2557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39960" y="628488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39960" y="585468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9960" y="54356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39960" y="50054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39960" y="457668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39960" y="41576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39960" y="37274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73080" y="5005440"/>
              <a:ext cx="3198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973080" y="500508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1501920" y="62877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43000" y="628776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571840" y="6289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102120" y="62877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641760" y="62877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172040" y="500508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973080" y="5603400"/>
              <a:ext cx="5288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501920" y="5304960"/>
              <a:ext cx="5410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043000" y="5005080"/>
              <a:ext cx="52884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571840" y="4706640"/>
              <a:ext cx="5302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102120" y="4408200"/>
              <a:ext cx="5396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973080" y="5089320"/>
              <a:ext cx="5288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501920" y="4790880"/>
              <a:ext cx="5410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043000" y="4492440"/>
              <a:ext cx="5288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571840" y="4194000"/>
              <a:ext cx="530280" cy="29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102120" y="3895200"/>
              <a:ext cx="5396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1200" y="620064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1200" y="577044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1200" y="535320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0440" y="4923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4040" y="4492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4040" y="40734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040" y="36432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39600" y="6400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96000" y="6400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5640" y="6400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5920" y="6400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6200" y="6400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35840" y="6400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66120" y="6400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43960" y="66294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-59400" y="494424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arnings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71800" y="4724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 Deb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09680" y="396252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Deb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447200" y="5105520"/>
              <a:ext cx="75960" cy="53316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57400" y="541008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itional Inter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55920" y="5365800"/>
              <a:ext cx="50148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54000" y="3483000"/>
            <a:ext cx="4452840" cy="3287520"/>
            <a:chOff x="54000" y="3483000"/>
            <a:chExt cx="4452840" cy="3287520"/>
          </a:xfrm>
        </p:grpSpPr>
        <p:sp>
          <p:nvSpPr>
            <p:cNvPr id="333" name=""/>
            <p:cNvSpPr/>
            <p:nvPr/>
          </p:nvSpPr>
          <p:spPr>
            <a:xfrm>
              <a:off x="54000" y="3483000"/>
              <a:ext cx="4452840" cy="328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9320" y="3699000"/>
              <a:ext cx="3494160" cy="2317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640" y="601668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640" y="57895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640" y="555300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7640" y="532620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7640" y="508968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7640" y="48625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7640" y="462600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7640" y="43988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7640" y="41623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7640" y="39355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7640" y="369900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9320" y="5553000"/>
              <a:ext cx="3494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79320" y="601992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62160" y="601992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844640" y="601992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425680" y="602460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008160" y="601992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591000" y="601992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173480" y="601992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068560" y="5553000"/>
              <a:ext cx="35712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425680" y="4745160"/>
              <a:ext cx="582480" cy="80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008160" y="3935160"/>
              <a:ext cx="58284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79320" y="5606640"/>
              <a:ext cx="58284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262160" y="5413320"/>
              <a:ext cx="58248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844640" y="5208120"/>
              <a:ext cx="58104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425680" y="5003280"/>
              <a:ext cx="58248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008160" y="4799160"/>
              <a:ext cx="5828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0480" y="59403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5280" y="57150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8120" y="5477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8120" y="5251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3320" y="5013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3320" y="4788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3320" y="454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320" y="4324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3320" y="4086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3320" y="386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3320" y="362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1960" y="6102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60920" y="610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41960" y="610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24440" y="610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07280" y="610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89760" y="610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72600" y="610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04280" y="639432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-363240" y="476424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arnings per share,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562120" y="4014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Deb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87880" y="49449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Deb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3:08:28Z</dcterms:created>
  <dc:creator>Frank</dc:creator>
  <dc:description/>
  <dc:language>en-US</dc:language>
  <cp:lastModifiedBy>frank crundwell</cp:lastModifiedBy>
  <dcterms:modified xsi:type="dcterms:W3CDTF">2007-08-16T16:56:43Z</dcterms:modified>
  <cp:revision>7</cp:revision>
  <dc:subject/>
  <dc:title>PowerPoint Presentation</dc:title>
</cp:coreProperties>
</file>